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FB1E7-17BE-4743-A14D-D116C7205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DB268-B556-4427-83C7-A50613F03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D0E83-DF66-4983-965A-538AE1512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2F36F-DB74-4221-8A0C-C9A590609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586F2-891F-4AC5-88F3-8C293C6D6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BB1F5-5EAA-4DD3-BCE0-09C98FCEC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95B43-2037-4025-8345-FAAD489F2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582FC-FA20-42FD-9864-1046B8068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ACED1-5924-4F90-A085-7B39E0DBC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E6996-5443-4434-B126-52D0E4DC2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2DB66-BEE2-4A5E-9FAC-5249377EF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476C8-B681-414A-B81E-F9D76EBDD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F955D-778A-4C11-AF13-6B9BA4C71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F65A6-FEA9-4D06-80D5-92C1EF70C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48610-8BAF-4F2C-8C50-833C63BBC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B4083-EAC5-419C-B07E-30BF4EE07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157ED-F11C-4F68-BC9B-894381577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1F140-009B-4D59-895B-A90CC8F02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5D686-4683-4330-8833-6CD8D5336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586BA-470C-43A0-BEE4-B2D081527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BE4C6-FFBF-4D4E-8377-3AB76EE26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E0C4C-AEC6-4FFE-BB34-90EADD203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43E9E-3050-4074-92C3-0DE9426F4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1E56F-CABE-4A8F-A90C-5F55DD10A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0339B-A747-4F16-A5B9-0E783AE88B6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굴림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EC79F-2926-42BE-B263-4AC485D728F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b2b2b2"/>
                </a:solidFill>
                <a:latin typeface="굴림"/>
              </a:rPr>
              <a:t>제 </a:t>
            </a:r>
            <a:r>
              <a:rPr b="0" lang="en-US" sz="4800" spc="-1" strike="noStrike">
                <a:solidFill>
                  <a:srgbClr val="b2b2b2"/>
                </a:solidFill>
                <a:latin typeface="굴림"/>
              </a:rPr>
              <a:t>12</a:t>
            </a:r>
            <a:r>
              <a:rPr b="0" lang="zh-CN" sz="4800" spc="-1" strike="noStrike">
                <a:solidFill>
                  <a:srgbClr val="b2b2b2"/>
                </a:solidFill>
                <a:latin typeface="굴림"/>
              </a:rPr>
              <a:t>장 중도 중복장애아 교육</a:t>
            </a:r>
            <a:endParaRPr b="0" lang="en-US" sz="48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도 중복장애아의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진흥법에 제시 없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직업재활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증장애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애인 중 근로능력이 현저하게 상실된 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사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심신장애의 정도가 무겁고 또한 장애가 두 가지 혹은 그 이상 중복해 있는 경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중도 중복장애의 정의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미국의 중증장애인협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통합된 지역사회에 참여하고 장애와 관계없이 모든 시민들이 누릴 수 있는 질적인 삶을 즐기기 위한 한 가지 이상의 주요 활동에 있어서 확장적이고 지속적인 지원을 필요로 하는 개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정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장애 정도가 심하거나 두 가지 이상 중복된 경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IQ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와 적응행동에 현저한 결함이 있어 학습에 확장적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지속적 지원을 필요로 하는 아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본인과 가족에게 거부감을 줄 수 있음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학습지도 방법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팀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다학문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간학문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학문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과제분석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개별 및 그룹 지도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4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매체 활용과 재활공학 기구 활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5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의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6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통합환경 구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평가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평가의 유의점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선행 조건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발달의 순서 파악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미세한 변화에 대처하는 미시적 관점의 평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세밀한 관찰과 기록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다면적이고 종합적인 평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평가의 문제점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선행연구보다는 교사의 관찰과 노력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장애의 유형과 정도 다양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발달수준의 복잡성과 다양성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기록에 의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미세 발달의 평가 한계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차후 교육을 위한 평가로 활용되어야 함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질문을 위한 </a:t>
            </a:r>
            <a:r>
              <a:rPr b="0" lang="en-US" sz="4400" spc="-1" strike="noStrike">
                <a:solidFill>
                  <a:srgbClr val="b2b2b2"/>
                </a:solidFill>
                <a:latin typeface="굴림"/>
              </a:rPr>
              <a:t>5</a:t>
            </a: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초의 인내</a:t>
            </a:r>
            <a:r>
              <a:rPr b="0" lang="en-US" sz="4400" spc="-1" strike="noStrike">
                <a:solidFill>
                  <a:srgbClr val="b2b2b2"/>
                </a:solidFill>
                <a:latin typeface="굴림"/>
              </a:rPr>
              <a:t>!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619280" y="1700280"/>
            <a:ext cx="590544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9T01:32:17Z</dcterms:created>
  <dc:creator>.</dc:creator>
  <dc:description/>
  <dc:language>en-US</dc:language>
  <cp:lastModifiedBy>f</cp:lastModifiedBy>
  <dcterms:modified xsi:type="dcterms:W3CDTF">2007-05-17T01:49:17Z</dcterms:modified>
  <cp:revision>7</cp:revision>
  <dc:subject/>
  <dc:title>제 12장 개별 사정과 교육계획</dc:title>
</cp:coreProperties>
</file>